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13BA-CE07-41D2-A173-F6182819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AD05-556D-498B-B766-71A91DE7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A61D-53DC-4193-851C-0FA9C355D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5F86-163D-45E4-9E4F-74FD0DC0F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CF71-CFA3-4C41-8FD1-18396C54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4338-7315-4AEC-9C1B-7DF7132E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ED30-C656-4612-933E-E2013DE9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DA42-8203-40ED-8635-6E849A35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DCF1-75A5-4D6E-8B49-DB6E5954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BFC9-3BFF-4CB0-917B-45612EBA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A725-E610-4637-BE6B-ADBAB2A4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EBAB-03F7-433F-B0D8-1F71E17D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8DAD-E87B-42B4-B14C-BA7AF5CD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5F8B-A2F9-4F0E-B223-502E2EF2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9904-D335-4E65-95BD-C73A2001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6728-2ED1-4C20-A229-715B7DD84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C847-31A6-45C8-B75B-8D0D363D4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A01D-1603-4D48-B97A-C35C37BE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676E-4B23-42E3-8A53-DF1BB959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31BE-0DD3-4653-B0AE-AB92D536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412A-527C-457A-B872-716429C4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26D1-3EA2-4DB1-A050-984DC5B6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2127-0A76-4394-BBE7-83C2F741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DECE-504A-40F8-B63F-2F00F96B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1C5C-875E-4069-A7D9-3ADC502E8B6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F747-5571-4255-B72D-0C25C2F66C9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images.free-extras.com/pics/s/soccer_ball-993.png&amp;imgrefurl=http://www.free-extras.com/images/soccer_ball-993.htm&amp;usg=__FPpJKQJTZjqwolAWc_T3DtjrHv0=&amp;h=600&amp;w=600&amp;sz=110&amp;hl=en&amp;start=1&amp;zoom=1&amp;um=1&amp;itbs=1&amp;tbnid=yXfKuzi6dbtPzM:&amp;tbnh=135&amp;tbnw=135&amp;prev=/search%3Fq%3Dsoccer%2Bball%26um%3D1%26hl%3Den%26safe%3Doff%26rlz%3D1R2SKPB_enUS357%26biw%3D1003%26bih%3D543%26tbm%3Disch&amp;ei=9f-2Tcy5BoiosAOSn-GoAQ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google.com/imgres?imgurl=http://images.free-extras.com/pics/s/soccer_ball-993.png&amp;imgrefurl=http://www.free-extras.com/images/soccer_ball-993.htm&amp;usg=__FPpJKQJTZjqwolAWc_T3DtjrHv0=&amp;h=600&amp;w=600&amp;sz=110&amp;hl=en&amp;start=1&amp;zoom=1&amp;um=1&amp;itbs=1&amp;tbnid=yXfKuzi6dbtPzM:&amp;tbnh=135&amp;tbnw=135&amp;prev=/search%3Fq%3Dsoccer%2Bball%26um%3D1%26hl%3Den%26safe%3Doff%26rlz%3D1R2SKPB_enUS357%26biw%3D1003%26bih%3D543%26tbm%3Disch&amp;ei=9f-2Tcy5BoiosAOSn-GoAQ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google.com/imgres?imgurl=http://images.free-extras.com/pics/s/soccer_ball-993.png&amp;imgrefurl=http://www.free-extras.com/images/soccer_ball-993.htm&amp;usg=__FPpJKQJTZjqwolAWc_T3DtjrHv0=&amp;h=600&amp;w=600&amp;sz=110&amp;hl=en&amp;start=1&amp;zoom=1&amp;um=1&amp;itbs=1&amp;tbnid=yXfKuzi6dbtPzM:&amp;tbnh=135&amp;tbnw=135&amp;prev=/search%3Fq%3Dsoccer%2Bball%26um%3D1%26hl%3Den%26safe%3Doff%26rlz%3D1R2SKPB_enUS357%26biw%3D1003%26bih%3D543%26tbm%3Disch&amp;ei=9f-2Tcy5BoiosAOSn-GoAQ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cup2010.info/trophy/trophy.jpg&amp;imgrefurl=http://www.cup2010.info/trophy/trophy.htm&amp;usg=__Nap44r6ZsJ01ABrcxtilHpTkP-U=&amp;h=599&amp;w=346&amp;sz=69&amp;hl=en&amp;start=2&amp;zoom=1&amp;um=1&amp;itbs=1&amp;tbnid=ErY7t-pcR9CFjM:&amp;tbnh=135&amp;tbnw=78&amp;prev=/search%3Fq%3Dworld%2Bcup%2Btrophy%26um%3D1%26hl%3Den%26safe%3Doff%26rlz%3D1R2SKPB_enUS357%26biw%3D1003%26bih%3D543%26tbm%3Disch&amp;ei=GAC3Tdu1MIyksQODz6mpAQ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"/>
              </a:rPr>
              <a:t>World Cup Soccer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comic"/>
              </a:rPr>
              <a:t>  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Team Spai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828440" y="594324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: Student A and B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59436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pai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10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Located in Europe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ts capital and largest city is Madri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country’s total land area is 499,400 sq km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pain’s population is 46,505,963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prime Minister is Jose Luis Rodriguez Zapatero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876920" y="2133720"/>
            <a:ext cx="380988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pain’s Soccer Histo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soccer organization in Spain was formed in 1863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n 1909, it was named Royal Spanish Football Federatio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pain’s team joined FIFA in 1927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472428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00400" y="472428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638680" y="480060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pain’s Soccer Accomplishment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2010 World Cup Champ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2008 UEFA European Football Champ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964 European Nation’s Cup Champ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anked Number 1 in the Worl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rom 2006-2009 Spain was 35-0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4419720"/>
            <a:ext cx="1452600" cy="243828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5715000" y="441972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pain’s Soccer Leagu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99680" indent="-4996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Barcelona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499680" indent="-4996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Real Madrid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499680" indent="-4996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Valencia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499680" indent="-4996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Villarreal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499680" indent="-4996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Athletic Bilbao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499680" indent="-4996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Atletico Madrid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499680" indent="-4996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Sevilla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499680" indent="-4996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Espanvol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499680" indent="-4996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Levante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499680" indent="-4996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Mallorca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499680" indent="-4996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Real Sporting 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499680" indent="-4996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Real Sociedad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499680" indent="-4996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Deportivo La Coruna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499680" indent="-4996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Getafe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499680" indent="-4996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Racing Santander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499680" indent="-4996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Real Zaragoza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499680" indent="-4996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Malaga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499680" indent="-4996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Osasuna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499680" indent="-4996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Hercules CF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499680" indent="-4996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 Black"/>
              </a:rPr>
              <a:t>Almeria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499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499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3809880" y="1752480"/>
            <a:ext cx="53341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pain’s National Tea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56581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17:08:05Z</dcterms:created>
  <dc:creator>Randy</dc:creator>
  <dc:description/>
  <dc:language>en-US</dc:language>
  <cp:lastModifiedBy>Randy</cp:lastModifiedBy>
  <dcterms:modified xsi:type="dcterms:W3CDTF">2011-04-26T17:30:28Z</dcterms:modified>
  <cp:revision>2</cp:revision>
  <dc:subject/>
  <dc:title>World Cup Soccer Team Germany</dc:title>
</cp:coreProperties>
</file>